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0D5-ABD8-4FB8-88C8-AD0B778F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ADF-172C-4F1D-B16B-959FB7CA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5A3-8261-4631-9E85-719AA3DC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E42-0BC9-4444-B69B-A09F1658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2E8B-B216-4B98-8CD8-AB60FB2D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1D80-12B9-49C5-80EF-896A1B9F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E797-991F-4CFB-B9B9-2B1C50A4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A266-474C-478D-9BE1-C995D6FE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975B-7F05-4D7A-840D-A3A27C67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EFD9-7270-4B8C-BE92-C5D3C79A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4C3E-4E96-4326-9DAD-D88D7496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D29-4A0B-4D36-AE89-26961C70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6FDB-B67C-4232-ACEB-9F62EDD5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66EC-E0B6-478A-A871-5D5B2EA5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5A1C-61DD-45C9-B20C-984CA607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E486-F6AA-4742-B9DF-B4D61A2E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1707-B348-4394-B574-F321FB3D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B28-570B-4B4A-96BD-62067DEA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905-248E-4026-8081-42D95802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A66B-A1BB-44B4-B1CD-98702346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F3B-FC1A-4279-84A3-E7907D08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3001-BD51-48B1-9B42-DE272D48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2DA-98C1-4E2E-A5B4-6C3B3873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F4A-94EA-4F87-9BD0-51353193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DD40-D324-4CBB-A48D-BA38075CD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A596-972F-462C-9A31-B7B3704447D6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ebsite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lobalteacher.org.au/" TargetMode="External"/><Relationship Id="rId2" Type="http://schemas.openxmlformats.org/officeDocument/2006/relationships/hyperlink" Target="http://www.education.vic.gov.au/teacher/blogs.htm" TargetMode="External"/><Relationship Id="rId3" Type="http://schemas.openxmlformats.org/officeDocument/2006/relationships/hyperlink" Target="http://www.education.vic.gov.au/teacher/blogs.htm" TargetMode="External"/><Relationship Id="rId4" Type="http://schemas.openxmlformats.org/officeDocument/2006/relationships/hyperlink" Target="http://www.education.vic.gov.au/teacher/blogs.htm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1800" y="1143000"/>
            <a:ext cx="3657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Blogs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Bl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start a Bl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use a Bl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riting a message on my blog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097760" cy="44067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48160" y="1218960"/>
            <a:ext cx="2057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‘Publish’ on the right hand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Blog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Helvetica-Bold"/>
              </a:rPr>
              <a:t>b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type of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eb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sually maintained by an individual with regular entries of commentary, descriptions of events, or other material such as graphics or vide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w to set up a Blog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globalteacher.org.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Verdana"/>
              </a:rPr>
              <a:t>Global Teacher is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-Bold"/>
                <a:hlinkClick r:id="rId2"/>
              </a:rPr>
              <a:t>virtual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-Bold"/>
                <a:hlinkClick r:id="rId3"/>
              </a:rPr>
              <a:t> blogging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-Bold"/>
                <a:hlinkClick r:id="rId4"/>
              </a:rPr>
              <a:t> environment</a:t>
            </a:r>
            <a:r>
              <a:rPr b="0" lang="en-US" sz="2800" spc="-1" strike="noStrike">
                <a:solidFill>
                  <a:srgbClr val="303030"/>
                </a:solidFill>
                <a:latin typeface="Verdana"/>
              </a:rPr>
              <a:t> which exists to promote curriculum excellence through the use of Web 2.0 technology. This directory acts as a 'front door' to a virtual staff room that is filled with rich resources, global projects and examples of teachers and students using Web 2.0 technology in exciting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9320" y="3805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‘create a teacher blog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n a username and your 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6201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5678640"/>
            <a:ext cx="788832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sent an email to get a pass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2296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og in here with username and passwo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473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778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people will see on your blo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09776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3:26:47Z</dcterms:created>
  <dc:creator>SMPS</dc:creator>
  <dc:description/>
  <dc:language>en-US</dc:language>
  <cp:lastModifiedBy>SMPS</cp:lastModifiedBy>
  <dcterms:modified xsi:type="dcterms:W3CDTF">2009-05-12T05:35:16Z</dcterms:modified>
  <cp:revision>2</cp:revision>
  <dc:subject/>
  <dc:title>Blogs</dc:title>
</cp:coreProperties>
</file>